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9D7-36F0-46C1-8586-4E4EEDD8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611-E7E8-4115-A555-48D112A5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292-7B59-4BA2-B4F6-DADF7570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6ED-CADE-4099-A345-CB533FAC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A60-A5F1-466F-999D-CA2BB94A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402-173C-483C-9200-629EBBA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B444-E699-48BB-AB20-65C0D2C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1BE-DBC2-4D13-B006-C77949C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561-DC77-4FB1-963B-4EA1FD2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1236-72C4-4FF6-A466-E5D5C00D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A74-F826-4DF2-8E74-E1B3267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F6A-7253-4F24-93E5-00B22029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933-C7B9-415F-97EA-4562E05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17F5-D3DE-4082-A910-95ED45D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D74-F4CD-4ED4-AC54-DA3F030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7DB0-1CB4-44FB-8E70-C7CC9804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80E-44CC-4C18-A640-378511F6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8949E-521F-433D-9198-96F90BAA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37CD9-AE51-4E2F-AA5F-527E16EB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573EC-8E67-4FFC-8DB9-B99CE71B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24406-5107-44CD-8006-6A2D4134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3A983-9D00-4496-A595-B41AC955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6D-4F50-4DA9-A11D-1970705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C0940-F0CF-45F5-A0C6-37C7803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F16B8-0DFF-402D-872B-1C1E756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16A80-5774-4FC5-91D1-1E32A12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6A375-56F7-4430-BDDA-C830433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AC911-2C3A-46E1-A87B-FCB611E3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84FA-B734-4F65-B137-600AF5C7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E7B6-00F2-4811-A653-324A829A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2E41-A087-4640-8F4A-9E39685C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5974-3C40-4AE9-B90B-623812D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27EF-35E4-4FD9-AEF0-4D74EF1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450-8782-4946-B28A-8EAE6C0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27D0-9CCE-42B3-802B-D0ECF89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CB24F-0D50-484C-BB8B-D72FF61A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11C0-BA9E-417C-AAEF-7FE31606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C01F-A7A0-452D-B39F-46603DB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4CF4-8CCF-479D-9C26-6766FB8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E01A-196B-4F02-B0E9-D222E86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A483-230F-4F6F-9E39-550E08B0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8F5C-35BB-4264-9F8B-AE346D52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BE87-8D92-4991-902C-D7587EB3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E0-0FD1-47F1-85B4-854A97F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590-5B3E-423D-AF8B-4370EBE3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563-2D3A-48B9-A048-AF8DD8F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C29-B72F-44BD-B2FB-410B94B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41C-9706-4E8F-BAC3-A804349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12C-1186-46A8-B7A8-6CBB8011DA27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E0F-4C83-48E7-BFAE-D2305AF4E115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51B-9CA4-443E-8211-04DFB13D80EF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70F-B1A5-4700-BB6D-E69200A40B2E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5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6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8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 z nawiasa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435640" y="2492280"/>
            <a:ext cx="3611520" cy="4052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Rozwiązywanie równań z nawiasami</a:t>
            </a:r>
            <a:br>
              <a:rPr sz="1800"/>
            </a:b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Przykład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ole tekstowe 6"/>
          <p:cNvSpPr/>
          <p:nvPr/>
        </p:nvSpPr>
        <p:spPr>
          <a:xfrm>
            <a:off x="543564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2411280" y="1987560"/>
            <a:ext cx="2737080" cy="647640"/>
          </a:xfrm>
          <a:prstGeom prst="wedgeRectCallout">
            <a:avLst>
              <a:gd name="adj1" fmla="val -77842"/>
              <a:gd name="adj2" fmla="val -5906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walniamy się od nawi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687708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6"/>
          <p:cNvSpPr/>
          <p:nvPr/>
        </p:nvSpPr>
        <p:spPr>
          <a:xfrm>
            <a:off x="7236000" y="28274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ole tekstowe 6"/>
          <p:cNvSpPr/>
          <p:nvPr/>
        </p:nvSpPr>
        <p:spPr>
          <a:xfrm>
            <a:off x="738036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6"/>
          <p:cNvSpPr/>
          <p:nvPr/>
        </p:nvSpPr>
        <p:spPr>
          <a:xfrm>
            <a:off x="752472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740720" y="2852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6"/>
          <p:cNvSpPr/>
          <p:nvPr/>
        </p:nvSpPr>
        <p:spPr>
          <a:xfrm>
            <a:off x="5435640" y="3476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6"/>
          <p:cNvSpPr/>
          <p:nvPr/>
        </p:nvSpPr>
        <p:spPr>
          <a:xfrm>
            <a:off x="6732720" y="3476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6"/>
          <p:cNvSpPr/>
          <p:nvPr/>
        </p:nvSpPr>
        <p:spPr>
          <a:xfrm>
            <a:off x="7093080" y="3476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6"/>
          <p:cNvSpPr/>
          <p:nvPr/>
        </p:nvSpPr>
        <p:spPr>
          <a:xfrm>
            <a:off x="730872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6"/>
          <p:cNvSpPr/>
          <p:nvPr/>
        </p:nvSpPr>
        <p:spPr>
          <a:xfrm>
            <a:off x="7524720" y="3476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6"/>
          <p:cNvSpPr/>
          <p:nvPr/>
        </p:nvSpPr>
        <p:spPr>
          <a:xfrm>
            <a:off x="7812000" y="34765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0"/>
          <p:cNvSpPr/>
          <p:nvPr/>
        </p:nvSpPr>
        <p:spPr>
          <a:xfrm>
            <a:off x="1908000" y="2852640"/>
            <a:ext cx="2737080" cy="649440"/>
          </a:xfrm>
          <a:prstGeom prst="wedgeRectCallout">
            <a:avLst>
              <a:gd name="adj1" fmla="val -76101"/>
              <a:gd name="adj2" fmla="val 1845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konujemy mnoż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6"/>
          <p:cNvSpPr/>
          <p:nvPr/>
        </p:nvSpPr>
        <p:spPr>
          <a:xfrm>
            <a:off x="5435640" y="4124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,4 - 3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6"/>
          <p:cNvSpPr/>
          <p:nvPr/>
        </p:nvSpPr>
        <p:spPr>
          <a:xfrm>
            <a:off x="6732720" y="4124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237440" y="4124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4"/>
          <p:cNvSpPr/>
          <p:nvPr/>
        </p:nvSpPr>
        <p:spPr>
          <a:xfrm>
            <a:off x="1619280" y="3716280"/>
            <a:ext cx="3529080" cy="865080"/>
          </a:xfrm>
          <a:prstGeom prst="wedgeRectCallout">
            <a:avLst>
              <a:gd name="adj1" fmla="val -84458"/>
              <a:gd name="adj2" fmla="val 273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Porządkujemy równanie, niewiadome zapisujemy po jednej stronie równania, pamiętamy o zmianie znaku 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6"/>
          <p:cNvSpPr/>
          <p:nvPr/>
        </p:nvSpPr>
        <p:spPr>
          <a:xfrm>
            <a:off x="5435640" y="4772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3x + 4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7"/>
          <p:cNvSpPr/>
          <p:nvPr/>
        </p:nvSpPr>
        <p:spPr>
          <a:xfrm>
            <a:off x="2195640" y="4724280"/>
            <a:ext cx="2736720" cy="793800"/>
          </a:xfrm>
          <a:prstGeom prst="wedgeRectCallout">
            <a:avLst>
              <a:gd name="adj1" fmla="val -100407"/>
              <a:gd name="adj2" fmla="val 14800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a wiadome  zapisujemy po drugiej stronie rów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6"/>
          <p:cNvSpPr/>
          <p:nvPr/>
        </p:nvSpPr>
        <p:spPr>
          <a:xfrm>
            <a:off x="6732720" y="477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9"/>
          <p:cNvSpPr/>
          <p:nvPr/>
        </p:nvSpPr>
        <p:spPr>
          <a:xfrm>
            <a:off x="1908000" y="5659560"/>
            <a:ext cx="2737080" cy="793800"/>
          </a:xfrm>
          <a:prstGeom prst="wedgeRectCallout">
            <a:avLst>
              <a:gd name="adj1" fmla="val -100407"/>
              <a:gd name="adj2" fmla="val 14800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redukujemy wyrazy podob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ole tekstowe 6"/>
          <p:cNvSpPr/>
          <p:nvPr/>
        </p:nvSpPr>
        <p:spPr>
          <a:xfrm>
            <a:off x="7380360" y="4772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6"/>
          <p:cNvSpPr/>
          <p:nvPr/>
        </p:nvSpPr>
        <p:spPr>
          <a:xfrm>
            <a:off x="601200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ole tekstowe 6"/>
          <p:cNvSpPr/>
          <p:nvPr/>
        </p:nvSpPr>
        <p:spPr>
          <a:xfrm>
            <a:off x="6588000" y="5348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7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3"/>
          <p:cNvSpPr/>
          <p:nvPr/>
        </p:nvSpPr>
        <p:spPr>
          <a:xfrm>
            <a:off x="5580000" y="5950080"/>
            <a:ext cx="3024360" cy="793800"/>
          </a:xfrm>
          <a:prstGeom prst="wedgeRectCallout">
            <a:avLst>
              <a:gd name="adj1" fmla="val 65379"/>
              <a:gd name="adj2" fmla="val -3199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rozwiązaniem równania jest liczba     – 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4"/>
          <p:cNvSpPr/>
          <p:nvPr/>
        </p:nvSpPr>
        <p:spPr>
          <a:xfrm>
            <a:off x="615636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5"/>
          <p:cNvSpPr/>
          <p:nvPr/>
        </p:nvSpPr>
        <p:spPr>
          <a:xfrm>
            <a:off x="680400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6"/>
          <p:cNvSpPr/>
          <p:nvPr/>
        </p:nvSpPr>
        <p:spPr>
          <a:xfrm>
            <a:off x="7308720" y="4076640"/>
            <a:ext cx="719280" cy="64764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7"/>
          <p:cNvSpPr/>
          <p:nvPr/>
        </p:nvSpPr>
        <p:spPr>
          <a:xfrm>
            <a:off x="5508720" y="407664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8"/>
          <p:cNvSpPr/>
          <p:nvPr/>
        </p:nvSpPr>
        <p:spPr>
          <a:xfrm>
            <a:off x="687708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9"/>
          <p:cNvSpPr/>
          <p:nvPr/>
        </p:nvSpPr>
        <p:spPr>
          <a:xfrm>
            <a:off x="730872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0"/>
          <p:cNvSpPr/>
          <p:nvPr/>
        </p:nvSpPr>
        <p:spPr>
          <a:xfrm>
            <a:off x="687708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1"/>
          <p:cNvSpPr/>
          <p:nvPr/>
        </p:nvSpPr>
        <p:spPr>
          <a:xfrm>
            <a:off x="7812000" y="2781360"/>
            <a:ext cx="503280" cy="576360"/>
          </a:xfrm>
          <a:prstGeom prst="ellipse">
            <a:avLst/>
          </a:prstGeom>
          <a:noFill/>
          <a:ln w="2844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9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4:55:42Z</dcterms:modified>
  <cp:revision>65</cp:revision>
  <dc:subject/>
  <dc:title>Prezentacja programu PowerPoint</dc:title>
</cp:coreProperties>
</file>